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843C-06F4-4438-925B-90B877266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C3F2-EEE2-435D-AFA8-6E6B3EC6B8A4}" type="slidenum">
              <a:rPr b="0" lang="en-US"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910A-96BE-4C2D-83CF-09F6CA755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A76AA-002B-474F-A166-8915081C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DA9BA-2A3D-48C1-8B39-0EE20190F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1A871-89E9-493D-BAEC-DDDD59E92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1E849-E796-4132-86D3-3622C9F39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F6BBC-3474-4933-B1CD-F1D14C96D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B45A2-E31B-4414-BA0B-5202FB88A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1828C-EEC3-4257-9181-7EF051652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5AF04-8651-4B2D-B5A7-E81354CB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B8775-23BA-49CA-81DB-F51B4AF0A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1FAA6-64FB-4120-AEDE-1841DDFE1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8187-5C12-49BE-8C54-186E2EAD1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DEB6-50B6-4591-A6A7-C71E24503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D1DB4-E191-4B8B-866F-0B649669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DD331-7880-4BA8-AFF8-32E567BBA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9B047-725A-4B0C-8040-9770FE5C2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6418F-7DBC-4248-BBD7-F9076CA6A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29F94-F4CA-4B32-830B-52426E02E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3ED5D-5338-4730-9BF5-81309EDE8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C26A-A0BD-4EA7-A202-513CA6B34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85AF-35B1-4AA1-A82D-A310BB9E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F9A2-B3DA-4503-AD22-3B8F42CD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C5817-D129-4178-BA3A-0E52F0C04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B01E-D4E3-40F1-8598-6535E05CB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0FD0-8EFF-4D6E-8455-C3B7DE8A5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18F0-9196-475D-8A8D-08DD50CB879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95360"/>
            <a:ext cx="77724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Does Dual Language Immersion Influence Social Relationships of 1</a:t>
            </a:r>
            <a:r>
              <a:rPr b="1" lang="en-US" sz="3600" spc="-1" strike="noStrike" baseline="30000">
                <a:solidFill>
                  <a:srgbClr val="006666"/>
                </a:solidFill>
                <a:latin typeface="Verdana"/>
              </a:rPr>
              <a:t>st</a:t>
            </a:r>
            <a:r>
              <a:rPr b="1" lang="en-US" sz="3600" spc="-1" strike="noStrike">
                <a:solidFill>
                  <a:srgbClr val="006666"/>
                </a:solidFill>
                <a:latin typeface="Verdana"/>
              </a:rPr>
              <a:t> graders?</a:t>
            </a:r>
            <a:endParaRPr b="0" lang="en-US" sz="3600" spc="-1" strike="noStrike">
              <a:solidFill>
                <a:srgbClr val="006666"/>
              </a:solidFill>
              <a:latin typeface="Verdana"/>
            </a:endParaRPr>
          </a:p>
        </p:txBody>
      </p:sp>
      <p:sp>
        <p:nvSpPr>
          <p:cNvPr id="175" name="PlaceHolder 2"/>
          <p:cNvSpPr>
            <a:spLocks noGrp="1"/>
          </p:cNvSpPr>
          <p:nvPr>
            <p:ph type="subTitle"/>
          </p:nvPr>
        </p:nvSpPr>
        <p:spPr>
          <a:xfrm>
            <a:off x="-1219680" y="3505320"/>
            <a:ext cx="632484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Yan Chen</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BSE 7201, Fall 2016</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0" lang="en-US" sz="2400" spc="-1" strike="noStrike">
              <a:solidFill>
                <a:srgbClr val="006699"/>
              </a:solidFill>
              <a:latin typeface="Verdana"/>
            </a:endParaRPr>
          </a:p>
        </p:txBody>
      </p:sp>
      <p:pic>
        <p:nvPicPr>
          <p:cNvPr id="176" name="Picture 1" descr=""/>
          <p:cNvPicPr/>
          <p:nvPr/>
        </p:nvPicPr>
        <p:blipFill>
          <a:blip r:embed="rId1"/>
          <a:stretch/>
        </p:blipFill>
        <p:spPr>
          <a:xfrm>
            <a:off x="3886200" y="2819520"/>
            <a:ext cx="5292720" cy="403848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28960"/>
            <a:ext cx="824364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ea typeface="Verdana"/>
              </a:rPr>
              <a:t>Statement of Hypothesis</a:t>
            </a:r>
            <a:endParaRPr b="0" lang="en-US" sz="4400" spc="-1" strike="noStrike">
              <a:solidFill>
                <a:srgbClr val="006666"/>
              </a:solidFill>
              <a:latin typeface="Verdana"/>
            </a:endParaRPr>
          </a:p>
        </p:txBody>
      </p:sp>
      <p:sp>
        <p:nvSpPr>
          <p:cNvPr id="197" name="PlaceHolder 2"/>
          <p:cNvSpPr>
            <a:spLocks noGrp="1"/>
          </p:cNvSpPr>
          <p:nvPr>
            <p:ph/>
          </p:nvPr>
        </p:nvSpPr>
        <p:spPr>
          <a:xfrm>
            <a:off x="304920" y="1095120"/>
            <a:ext cx="8229600" cy="2151000"/>
          </a:xfrm>
          <a:prstGeom prst="rect">
            <a:avLst/>
          </a:prstGeom>
          <a:noFill/>
          <a:ln w="0">
            <a:noFill/>
          </a:ln>
        </p:spPr>
        <p:txBody>
          <a:bodyPr anchor="t">
            <a:normAutofit fontScale="65000"/>
          </a:bodyPr>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implement a form of dual language immersion to 16 Mandarin students and 15 English-speaking students in a 1</a:t>
            </a:r>
            <a:r>
              <a:rPr b="0" lang="en-US" sz="1800" spc="-1" strike="noStrike" baseline="30000">
                <a:solidFill>
                  <a:srgbClr val="006699"/>
                </a:solidFill>
                <a:latin typeface="Verdana"/>
              </a:rPr>
              <a:t>st</a:t>
            </a:r>
            <a:r>
              <a:rPr b="0" lang="en-US" sz="1800" spc="-1" strike="noStrike">
                <a:solidFill>
                  <a:srgbClr val="006699"/>
                </a:solidFill>
                <a:latin typeface="Verdana"/>
              </a:rPr>
              <a:t> grade classroom.  The dual language immersion program will be a five-week period.  Dual language lessons will be given 4 times a week for about 45 minutes each day after lunch.  On alternating days’ students will be required to speak either only Mandarin or only English for the 45 minute session.  The dual language immersion program will be conducted by use of story books, flash cards, cartoons, sing-alone activities, role plays and labels throughout the classroom. </a:t>
            </a:r>
            <a:endParaRPr b="0" lang="en-US" sz="1800" spc="-1" strike="noStrike">
              <a:solidFill>
                <a:srgbClr val="006699"/>
              </a:solidFill>
              <a:latin typeface="Verdana"/>
            </a:endParaRPr>
          </a:p>
          <a:p>
            <a:pPr marL="222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hort, simple Survey will be given to each individual student at the beginning and end of the program to measure any change in the class. A simple oral test will be used to measure how much of the foreign language they have learned in the program.  A student and parent(s) engaged activity will be assigned at the end as well. </a:t>
            </a:r>
            <a:endParaRPr b="0" lang="en-US" sz="1800" spc="-1" strike="noStrike">
              <a:solidFill>
                <a:srgbClr val="006699"/>
              </a:solidFill>
              <a:latin typeface="Verdana"/>
            </a:endParaRPr>
          </a:p>
          <a:p>
            <a:pPr marL="22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2678400" y="-20520"/>
            <a:ext cx="2891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erences</a:t>
            </a:r>
            <a:endParaRPr b="0" lang="en-US" sz="4800" spc="-1" strike="noStrike">
              <a:solidFill>
                <a:srgbClr val="006699"/>
              </a:solidFill>
              <a:latin typeface="Verdana"/>
            </a:endParaRPr>
          </a:p>
        </p:txBody>
      </p:sp>
      <p:sp>
        <p:nvSpPr>
          <p:cNvPr id="199" name="TextBox 2"/>
          <p:cNvSpPr/>
          <p:nvPr/>
        </p:nvSpPr>
        <p:spPr>
          <a:xfrm>
            <a:off x="-12600" y="811080"/>
            <a:ext cx="9281880" cy="804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6).  Students’ Perceptions of Bilingualism in Spanish and Mandarin Dual Language Programs.  </a:t>
            </a:r>
            <a:r>
              <a:rPr b="0" i="1" lang="en-US" sz="1800" spc="-1" strike="noStrike">
                <a:solidFill>
                  <a:srgbClr val="006699"/>
                </a:solidFill>
                <a:latin typeface="Times New Roman"/>
                <a:ea typeface="Times New Roman"/>
              </a:rPr>
              <a:t>International Multilingual Research Journal</a:t>
            </a:r>
            <a:r>
              <a:rPr b="0" lang="en-US" sz="1800" spc="-1" strike="noStrike">
                <a:solidFill>
                  <a:srgbClr val="006699"/>
                </a:solidFill>
                <a:latin typeface="Times New Roman"/>
                <a:ea typeface="Times New Roman"/>
              </a:rPr>
              <a:t>, 10(1), 59-70.</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tewart, J. (2005). Foreigner Language Study in Elementary Schools: Benefits and Implications for Achievement in Reading and Math.  </a:t>
            </a:r>
            <a:r>
              <a:rPr b="0" i="1" lang="en-US" sz="1800" spc="-1" strike="noStrike">
                <a:solidFill>
                  <a:srgbClr val="006699"/>
                </a:solidFill>
                <a:latin typeface="Times New Roman"/>
                <a:ea typeface="Times New Roman"/>
              </a:rPr>
              <a:t>Early Childhood Education Journal</a:t>
            </a:r>
            <a:r>
              <a:rPr b="0" lang="en-US" sz="1800" spc="-1" strike="noStrike">
                <a:solidFill>
                  <a:srgbClr val="006699"/>
                </a:solidFill>
                <a:latin typeface="Times New Roman"/>
                <a:ea typeface="Times New Roman"/>
              </a:rPr>
              <a:t>, 33(1), 11-1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Alanis, I., Rodriguez M. (2008). Sustaining a Dual Language Immersion Program: Features of Success. </a:t>
            </a:r>
            <a:r>
              <a:rPr b="0" i="1" lang="en-US" sz="1800" spc="-1" strike="noStrike">
                <a:solidFill>
                  <a:srgbClr val="006699"/>
                </a:solidFill>
                <a:latin typeface="Times New Roman"/>
                <a:ea typeface="Times New Roman"/>
              </a:rPr>
              <a:t>Journal of Latino and Education</a:t>
            </a:r>
            <a:r>
              <a:rPr b="0" lang="en-US" sz="1800" spc="-1" strike="noStrike">
                <a:solidFill>
                  <a:srgbClr val="006699"/>
                </a:solidFill>
                <a:latin typeface="Times New Roman"/>
                <a:ea typeface="Times New Roman"/>
              </a:rPr>
              <a:t>, 7(4), 305-319.</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2). Success and Challenges In Dual Language Education. </a:t>
            </a:r>
            <a:r>
              <a:rPr b="0" i="1" lang="en-US" sz="1800" spc="-1" strike="noStrike">
                <a:solidFill>
                  <a:srgbClr val="006699"/>
                </a:solidFill>
                <a:latin typeface="Times New Roman"/>
                <a:ea typeface="Times New Roman"/>
              </a:rPr>
              <a:t>Theory Into Practice</a:t>
            </a:r>
            <a:r>
              <a:rPr b="0" lang="en-US" sz="1800" spc="-1" strike="noStrike">
                <a:solidFill>
                  <a:srgbClr val="006699"/>
                </a:solidFill>
                <a:latin typeface="Times New Roman"/>
                <a:ea typeface="Times New Roman"/>
              </a:rPr>
              <a:t>, 51, 256-26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ristian, D. (1996). Two-Way Immersion Education: Students Learning through Two Languages. </a:t>
            </a:r>
            <a:r>
              <a:rPr b="0" i="1" lang="en-US" sz="1800" spc="-1" strike="noStrike">
                <a:solidFill>
                  <a:srgbClr val="006699"/>
                </a:solidFill>
                <a:latin typeface="Times New Roman"/>
                <a:ea typeface="Times New Roman"/>
              </a:rPr>
              <a:t>The Modern Language Journal</a:t>
            </a:r>
            <a:r>
              <a:rPr b="0" lang="en-US" sz="1800" spc="-1" strike="noStrike">
                <a:solidFill>
                  <a:srgbClr val="006699"/>
                </a:solidFill>
                <a:latin typeface="Times New Roman"/>
                <a:ea typeface="Times New Roman"/>
              </a:rPr>
              <a:t>, 80(1), 66-76.</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auhan, P.M., (2015).  Role Play: A Means of Dialogue for Learning English Language. </a:t>
            </a:r>
            <a:r>
              <a:rPr b="0" i="1" lang="en-US" sz="1800" spc="-1" strike="noStrike">
                <a:solidFill>
                  <a:srgbClr val="006699"/>
                </a:solidFill>
                <a:latin typeface="Times New Roman"/>
                <a:ea typeface="Times New Roman"/>
              </a:rPr>
              <a:t>Arts and Social Sciences Journal</a:t>
            </a:r>
            <a:r>
              <a:rPr b="0" lang="en-US" sz="1800" spc="-1" strike="noStrike">
                <a:solidFill>
                  <a:srgbClr val="006699"/>
                </a:solidFill>
                <a:latin typeface="Times New Roman"/>
                <a:ea typeface="Times New Roman"/>
              </a:rPr>
              <a:t>, 6(4), 132. doi: 10.4172/2151-6200.100013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opez, M., (2011). Children’s language ideologies in a first-grade dual-language class. </a:t>
            </a:r>
            <a:r>
              <a:rPr b="0" i="1" lang="en-US" sz="1800" spc="-1" strike="noStrike">
                <a:solidFill>
                  <a:srgbClr val="006699"/>
                </a:solidFill>
                <a:latin typeface="Times New Roman"/>
                <a:ea typeface="Times New Roman"/>
              </a:rPr>
              <a:t>Journal of Early Childhood Literacy</a:t>
            </a:r>
            <a:r>
              <a:rPr b="0" lang="en-US" sz="1800" spc="-1" strike="noStrike">
                <a:solidFill>
                  <a:srgbClr val="006699"/>
                </a:solidFill>
                <a:latin typeface="Times New Roman"/>
                <a:ea typeface="Times New Roman"/>
              </a:rPr>
              <a:t>, 12(2), 176-201.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ook Lee, J., Hill-Bonnet, L., Raley, J. (2011). Examining the Effects of Language Brokering on Student Identities and Learning Opportunities in Dual Immersion Classrooms. </a:t>
            </a:r>
            <a:r>
              <a:rPr b="0" i="1" lang="en-US" sz="1800" spc="-1" strike="noStrike">
                <a:solidFill>
                  <a:srgbClr val="006699"/>
                </a:solidFill>
                <a:latin typeface="Times New Roman"/>
                <a:ea typeface="Times New Roman"/>
              </a:rPr>
              <a:t>Journal of Language, Identity, and Education</a:t>
            </a:r>
            <a:r>
              <a:rPr b="0" lang="en-US" sz="1800" spc="-1" strike="noStrike">
                <a:solidFill>
                  <a:srgbClr val="006699"/>
                </a:solidFill>
                <a:latin typeface="Times New Roman"/>
                <a:ea typeface="Times New Roman"/>
              </a:rPr>
              <a:t>, 10, 306-32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chultz, K., &amp; Coleman-King, C., (2012). Becoming Visible: Shifting Teacher Practice to Actively Engage New Immigrant Students in Urban Classrooms. . </a:t>
            </a:r>
            <a:r>
              <a:rPr b="0" i="1" lang="en-US" sz="1800" spc="-1" strike="noStrike">
                <a:solidFill>
                  <a:srgbClr val="006699"/>
                </a:solidFill>
                <a:latin typeface="Times New Roman"/>
                <a:ea typeface="Times New Roman"/>
              </a:rPr>
              <a:t>The Urban Review</a:t>
            </a:r>
            <a:r>
              <a:rPr b="0" lang="en-US" sz="1800" spc="-1" strike="noStrike">
                <a:solidFill>
                  <a:srgbClr val="006699"/>
                </a:solidFill>
                <a:latin typeface="Times New Roman"/>
                <a:ea typeface="Times New Roman"/>
              </a:rPr>
              <a:t>, 44(4), 487-509.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99"/>
                </a:solidFill>
                <a:latin typeface="Times New Roman"/>
                <a:ea typeface="Times New Roman"/>
              </a:rPr>
              <a:t>Walker, C. L., &amp; Tedick, D. J., (2000). The Complexity of Immersion Education: Teachers Address the Issues. The Modern Language Journal,84, i, 5-27.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8" name="PlaceHolder 2"/>
          <p:cNvSpPr>
            <a:spLocks noGrp="1"/>
          </p:cNvSpPr>
          <p:nvPr>
            <p:ph/>
          </p:nvPr>
        </p:nvSpPr>
        <p:spPr>
          <a:xfrm>
            <a:off x="457200" y="1599840"/>
            <a:ext cx="8229600" cy="21495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troduction</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eview of Related Literature</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Hypothesis</a:t>
            </a:r>
            <a:endParaRPr b="0" lang="en-US" sz="2800" spc="-1" strike="noStrike">
              <a:solidFill>
                <a:srgbClr val="006699"/>
              </a:solidFill>
              <a:latin typeface="Verdana"/>
            </a:endParaRPr>
          </a:p>
        </p:txBody>
      </p:sp>
      <p:pic>
        <p:nvPicPr>
          <p:cNvPr id="179" name="Content Placeholder 2" descr=""/>
          <p:cNvPicPr/>
          <p:nvPr/>
        </p:nvPicPr>
        <p:blipFill>
          <a:blip r:embed="rId1"/>
          <a:stretch/>
        </p:blipFill>
        <p:spPr>
          <a:xfrm>
            <a:off x="11160" y="3749760"/>
            <a:ext cx="4408560" cy="3079800"/>
          </a:xfrm>
          <a:prstGeom prst="rect">
            <a:avLst/>
          </a:prstGeom>
          <a:ln w="0">
            <a:noFill/>
          </a:ln>
        </p:spPr>
      </p:pic>
      <p:pic>
        <p:nvPicPr>
          <p:cNvPr id="180" name="Picture 3" descr=""/>
          <p:cNvPicPr/>
          <p:nvPr/>
        </p:nvPicPr>
        <p:blipFill>
          <a:blip r:embed="rId2"/>
          <a:stretch/>
        </p:blipFill>
        <p:spPr>
          <a:xfrm>
            <a:off x="4510080" y="3749760"/>
            <a:ext cx="4622760" cy="307980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971640" y="457200"/>
            <a:ext cx="392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Introduction </a:t>
            </a:r>
            <a:endParaRPr b="0" lang="en-US" sz="4800" spc="-1" strike="noStrike">
              <a:solidFill>
                <a:srgbClr val="006699"/>
              </a:solidFill>
              <a:latin typeface="Verdana"/>
            </a:endParaRPr>
          </a:p>
        </p:txBody>
      </p:sp>
      <p:pic>
        <p:nvPicPr>
          <p:cNvPr id="182" name="Picture 2" descr=""/>
          <p:cNvPicPr/>
          <p:nvPr/>
        </p:nvPicPr>
        <p:blipFill>
          <a:blip r:embed="rId1"/>
          <a:stretch/>
        </p:blipFill>
        <p:spPr>
          <a:xfrm>
            <a:off x="6095880" y="192240"/>
            <a:ext cx="2641680" cy="2260440"/>
          </a:xfrm>
          <a:prstGeom prst="rect">
            <a:avLst/>
          </a:prstGeom>
          <a:ln w="0">
            <a:noFill/>
          </a:ln>
        </p:spPr>
      </p:pic>
      <p:sp>
        <p:nvSpPr>
          <p:cNvPr id="183" name="TextBox 3"/>
          <p:cNvSpPr/>
          <p:nvPr/>
        </p:nvSpPr>
        <p:spPr>
          <a:xfrm>
            <a:off x="-1440" y="2438280"/>
            <a:ext cx="8993160" cy="3386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ntinued growth in the number of immigrant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creasing number of student for whom English is a second language.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tudents in a Non-English household reached almost 10 million in 2004.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Educators struggle to provide effective language programs in diverse classrooms.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mited interaction between language diverse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ome educators choose to view these challenges as opportunities by offering a bilingual immersion programs (Alanis, &amp; Rodriguez, 2008).  </a:t>
            </a:r>
            <a:endParaRPr b="0" lang="en-US" sz="20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tatement of the Problem</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fontScale="97000"/>
          </a:bodyPr>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S X a general 1</a:t>
            </a:r>
            <a:r>
              <a:rPr b="0" lang="en-US" sz="2400" spc="-1" strike="noStrike" baseline="30000">
                <a:solidFill>
                  <a:srgbClr val="000000"/>
                </a:solidFill>
                <a:latin typeface="Verdana"/>
              </a:rPr>
              <a:t>st</a:t>
            </a:r>
            <a:r>
              <a:rPr b="0" lang="en-US" sz="2400" spc="-1" strike="noStrike">
                <a:solidFill>
                  <a:srgbClr val="000000"/>
                </a:solidFill>
                <a:latin typeface="Verdana"/>
              </a:rPr>
              <a:t> grade classroom consists of English only students and ELL Chinese students.  The problem is these two groups of students self-separate.  During team activities, they prefer being arranged with others from their language group.  The problem is mainly a language barrier.  </a:t>
            </a:r>
            <a:endParaRPr b="0" lang="en-US" sz="2400" spc="-1" strike="noStrike">
              <a:solidFill>
                <a:srgbClr val="006699"/>
              </a:solidFill>
              <a:latin typeface="Verdan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is to find a method of increasing interaction between these two groups of students.  Can dual language immersion improve the relationship of students with different language backgrounds?</a:t>
            </a:r>
            <a:endParaRPr b="0" lang="en-US" sz="2400" spc="-1" strike="noStrike">
              <a:solidFill>
                <a:srgbClr val="006699"/>
              </a:solidFill>
              <a:latin typeface="Verdan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87" name="TextBox 3"/>
          <p:cNvSpPr/>
          <p:nvPr/>
        </p:nvSpPr>
        <p:spPr>
          <a:xfrm>
            <a:off x="-15840" y="1035000"/>
            <a:ext cx="916920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re are two practice methods of Dual Language Immersion mos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monly used in classrooms; 90/10 and 50/50 language spli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indholm-Leary, 2016).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lecting between these two methods will likely have a direct influence on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results of my research.  I’ve to chosen to proceed with a 50/50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anguage spli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Research on Dual Language Enrichment (DLE) programs demonstrate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success.  There are important challenges in DLE that can impact the</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quality of these programs; that is, how well the programs are designed and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plemented. (Lindholm-Leary, 2012)</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the program design is to convince parents of the both groups that their children will not “fall behind” as compared to their peers in other non-DLE learning environmen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0" y="1474920"/>
            <a:ext cx="9067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 The dual language program provides an atmosphere that allows student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acquire a second language and learn about another culture withou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crificing their individual identities (Alanis, &amp; Rodriguez, 2008).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allows students of the target language (Chinese) to retain their identity while also being more accepted by the English-only student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4. While students were becoming proficient in two languages, they were also creating their identities and beginning to understand issues of language and society and formulating ideologies (Lopez, 2011).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my research to is encourage students to keep their heritage as part of their self identity.</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9" name="TextBox 3"/>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0" y="127476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Shifting participation structures to incorporate technology and multiple instruction models provided opportunities for immigrant students to become more visible in the classroom (Schultz, &amp; Coleman-King, 2012).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migrant students tend to participate less in class.  My intervention is to encourage more participa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 Role play is a speaking activity. This activity provides students with more opportunities to “act” and “interact” with their friends and classmates (Chauhan, 2015).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can learn while playing.  In my research, I will integrate role play into my lesson plan.</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TextBox 2"/>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4"/>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3" name="TextBox 5"/>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 Two-way programs typically share the goals of bilingual proficiency,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cademic achievement, and positive cross cultural attitudes and behaviors, but they vary a good deal in the approaches and strategies they use to work toward those goals (Christian, 1996).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y goal is to improve relationships among students.  This will directly influence my method of improving cultural understanding rather tha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 language attainmen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8. Language brokering is the process of interpreting and translating between culturally and linguistically different people and mediating interactions in a variety of situations (Sook Lee, Hill-Bonnet, &amp; Raley, 2011).</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intent of my research is to test an idea for improving learning in a diverse, multi-lingual classroom through the use of language. </a:t>
            </a:r>
            <a:endParaRPr b="0" lang="en-US" sz="18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5" name="TextBox 2"/>
          <p:cNvSpPr/>
          <p:nvPr/>
        </p:nvSpPr>
        <p:spPr>
          <a:xfrm>
            <a:off x="0" y="9828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9. Successful foreign language study leads to increased child’s cognitive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kills, and enhanced higher achievement and test scores (Stewart, 2005).</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day to day life Bilingualism allows for social interactions between people</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 diverse language and cultural background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Teachers described the particular challenges of immersion teaching (Walker, &amp; Tedick, 2000).</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ost challenges of immersion teaching were related to unique and local contexts.  I must be prepared to adjust my lesson plans during the course of the interven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383</cp:lastModifiedBy>
  <cp:lastPrinted>2016-10-18T15:56:08Z</cp:lastPrinted>
  <dcterms:modified xsi:type="dcterms:W3CDTF">2016-10-18T23:12:38Z</dcterms:modified>
  <cp:revision>75</cp:revision>
  <dc:subject/>
  <dc:title>The Effects of Reading at Home With a Parent on Reading Achievement in School</dc:title>
</cp:coreProperties>
</file>